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08B-EC22-4EBC-8EF2-80505E39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DD4-0267-49EB-8561-26737BAB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50F-8F93-4ED5-9DCD-6DFC1E77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710-C720-4FC1-8EE3-A04C955C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120-F336-4AC7-A498-1CC91E25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D7F-3101-4F3D-AAEB-7440CC11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C35-8BC6-463C-81DC-1F00CDDC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ECE-7A42-40C4-B8F9-230A55EA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6BE-AF8E-4C41-AEC5-CB2539A5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FD0-F908-4DAA-8B4F-2925CB01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D15-9B78-4E65-9AEA-A0A308D1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69C-C7F0-4649-BA1D-12394DDC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2CF9-7BD4-4703-8FCC-A2F30901F9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4-08-23T05:55:23Z</dcterms:modified>
  <cp:revision>809</cp:revision>
  <dc:subject/>
  <dc:title>Free PPT Backgrounds</dc:title>
</cp:coreProperties>
</file>